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F779-0CE5-44DF-A03A-470599DDF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A6C9-850B-40BD-A878-559211501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F080-5880-45F1-A3AE-75CD2716B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793B-0D0D-4B26-B3A7-DAF5EFA64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6B4E3-C369-444F-962A-3D397E389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715D-64BD-407A-8875-28FB4CD3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73D5-C3DF-49E2-A89A-F9422E54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C1BD2-14E2-48A9-801B-73246B34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DBB5B-323D-424A-A7AC-DAC5ADF3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E34A4-C080-4865-8918-39289E50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A1F4-F118-4BB4-850E-24FF775C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1F0A-C6C8-4C88-A664-680B1383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A758-2E66-4C1D-B6E3-A8A09A97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BF91D-31B3-4383-ACCE-F1DE000D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356A-DFA0-4668-8761-04116843F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2076-4F13-4B84-BFA6-E974E04EB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A264-D9FA-4D1F-8E74-695BF034D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A50D-4FE5-4962-89E0-6F108020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1A88-0C06-4851-B2EA-1CD3E81B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93C0-7AD7-49F5-A59F-DCAFBB44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1515-11C2-42B4-B0E3-658CCB8D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7103-3DF4-4EDF-907E-6516E7CE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201C-0EB8-4B03-B468-7B6CA0C1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9C94-FD89-4BFE-9FFE-5709FCD8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2: Formu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F49E-6E4E-4A52-90B2-653D42282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2: Formu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5AF1-95E2-41B3-BB85-C5BEDB9AA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2: Formu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B191-2010-4491-8CF7-05B1FDF5E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esson 8-2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43000" y="1752120"/>
            <a:ext cx="68580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Formula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5"/>
          <p:cNvGraphicFramePr/>
          <p:nvPr/>
        </p:nvGraphicFramePr>
        <p:xfrm>
          <a:off x="6781680" y="5410080"/>
          <a:ext cx="185256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410080"/>
                    <a:ext cx="18525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Text Box 6"/>
          <p:cNvSpPr/>
          <p:nvPr/>
        </p:nvSpPr>
        <p:spPr>
          <a:xfrm>
            <a:off x="684360" y="3228840"/>
            <a:ext cx="42890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ircumferen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rc Lengt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re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ect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6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2: Formu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7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C944-D7E1-4ECE-A59E-BCADFEB58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entral Angle</a:t>
            </a:r>
            <a:endParaRPr b="0" lang="en-US" sz="6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83908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central ang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n angle whose vertex is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t the cen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cir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8"/>
          <p:cNvGraphicFramePr/>
          <p:nvPr/>
        </p:nvGraphicFramePr>
        <p:xfrm>
          <a:off x="4267080" y="3429000"/>
          <a:ext cx="762120" cy="47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3429000"/>
                    <a:ext cx="76212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4"/>
          <p:cNvSpPr/>
          <p:nvPr/>
        </p:nvSpPr>
        <p:spPr>
          <a:xfrm>
            <a:off x="228600" y="411480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asure of a minor arc is the measure of its central 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04920" y="518148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asure of a major arc is 360 minus the measure of its central ang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04920" y="3581280"/>
            <a:ext cx="40384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c measur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written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10"/>
          <p:cNvGraphicFramePr/>
          <p:nvPr/>
        </p:nvGraphicFramePr>
        <p:xfrm>
          <a:off x="3200400" y="4572000"/>
          <a:ext cx="2209680" cy="48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4572000"/>
                    <a:ext cx="22096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Picture 13" descr=""/>
          <p:cNvPicPr/>
          <p:nvPr/>
        </p:nvPicPr>
        <p:blipFill>
          <a:blip r:embed="rId5"/>
          <a:stretch/>
        </p:blipFill>
        <p:spPr>
          <a:xfrm>
            <a:off x="6477120" y="2286000"/>
            <a:ext cx="2028600" cy="1895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Object 14"/>
          <p:cNvGraphicFramePr/>
          <p:nvPr/>
        </p:nvGraphicFramePr>
        <p:xfrm>
          <a:off x="2743200" y="2666880"/>
          <a:ext cx="1447920" cy="563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8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43200" y="2666880"/>
                    <a:ext cx="144792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6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2: Formu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7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A8CE2-F6CF-4EAC-878A-A3D619EFEF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IRCUMFERENCE: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3055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Circumfere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istance arou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circl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15"/>
          <p:cNvGraphicFramePr/>
          <p:nvPr/>
        </p:nvGraphicFramePr>
        <p:xfrm>
          <a:off x="1905120" y="2895480"/>
          <a:ext cx="160020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895480"/>
                    <a:ext cx="160020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9"/>
          <p:cNvGraphicFramePr/>
          <p:nvPr/>
        </p:nvGraphicFramePr>
        <p:xfrm>
          <a:off x="4800600" y="2895480"/>
          <a:ext cx="1676520" cy="60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2895480"/>
                    <a:ext cx="167652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2"/>
          <p:cNvGraphicFramePr/>
          <p:nvPr/>
        </p:nvGraphicFramePr>
        <p:xfrm>
          <a:off x="7315200" y="3429000"/>
          <a:ext cx="1295280" cy="519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15200" y="3429000"/>
                    <a:ext cx="129528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Text Box 13"/>
          <p:cNvSpPr/>
          <p:nvPr/>
        </p:nvSpPr>
        <p:spPr>
          <a:xfrm>
            <a:off x="304920" y="2895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3962520" y="2895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229320" y="411480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8"/>
          <p:cNvSpPr/>
          <p:nvPr/>
        </p:nvSpPr>
        <p:spPr>
          <a:xfrm>
            <a:off x="1676520" y="41148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circumference of the following cir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34"/>
          <p:cNvGrpSpPr/>
          <p:nvPr/>
        </p:nvGrpSpPr>
        <p:grpSpPr>
          <a:xfrm>
            <a:off x="6705720" y="4419720"/>
            <a:ext cx="1981080" cy="1925640"/>
            <a:chOff x="6705720" y="4419720"/>
            <a:chExt cx="1981080" cy="1925640"/>
          </a:xfrm>
        </p:grpSpPr>
        <p:sp>
          <p:nvSpPr>
            <p:cNvPr id="124" name="AutoShape 33"/>
            <p:cNvSpPr/>
            <p:nvPr/>
          </p:nvSpPr>
          <p:spPr>
            <a:xfrm>
              <a:off x="6705720" y="4419720"/>
              <a:ext cx="1981080" cy="19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35"/>
            <p:cNvSpPr/>
            <p:nvPr/>
          </p:nvSpPr>
          <p:spPr>
            <a:xfrm>
              <a:off x="6843600" y="4557600"/>
              <a:ext cx="1663920" cy="1663920"/>
            </a:xfrm>
            <a:prstGeom prst="ellipse">
              <a:avLst/>
            </a:prstGeom>
            <a:noFill/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36"/>
            <p:cNvSpPr/>
            <p:nvPr/>
          </p:nvSpPr>
          <p:spPr>
            <a:xfrm>
              <a:off x="7669080" y="5383080"/>
              <a:ext cx="825480" cy="1296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37"/>
            <p:cNvSpPr/>
            <p:nvPr/>
          </p:nvSpPr>
          <p:spPr>
            <a:xfrm>
              <a:off x="7928280" y="5135400"/>
              <a:ext cx="517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 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38"/>
            <p:cNvSpPr/>
            <p:nvPr/>
          </p:nvSpPr>
          <p:spPr>
            <a:xfrm>
              <a:off x="7640640" y="5354640"/>
              <a:ext cx="69840" cy="684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39"/>
            <p:cNvSpPr/>
            <p:nvPr/>
          </p:nvSpPr>
          <p:spPr>
            <a:xfrm>
              <a:off x="8466120" y="5369040"/>
              <a:ext cx="69840" cy="680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30" name="Object 40"/>
          <p:cNvGraphicFramePr/>
          <p:nvPr/>
        </p:nvGraphicFramePr>
        <p:xfrm>
          <a:off x="3179880" y="4572000"/>
          <a:ext cx="1717560" cy="528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1" name="Object 4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79880" y="4572000"/>
                    <a:ext cx="171756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42"/>
          <p:cNvGraphicFramePr/>
          <p:nvPr/>
        </p:nvGraphicFramePr>
        <p:xfrm>
          <a:off x="3200400" y="5105520"/>
          <a:ext cx="1600200" cy="450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3" name="Object 4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00400" y="5105520"/>
                    <a:ext cx="160020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43"/>
          <p:cNvGraphicFramePr/>
          <p:nvPr/>
        </p:nvGraphicFramePr>
        <p:xfrm>
          <a:off x="3124080" y="5715000"/>
          <a:ext cx="1600200" cy="447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5" name="Object 4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124080" y="5715000"/>
                    <a:ext cx="160020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Text Box 44"/>
          <p:cNvSpPr/>
          <p:nvPr/>
        </p:nvSpPr>
        <p:spPr>
          <a:xfrm>
            <a:off x="4800600" y="5715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5"/>
          <p:cNvSpPr/>
          <p:nvPr/>
        </p:nvSpPr>
        <p:spPr>
          <a:xfrm>
            <a:off x="6095880" y="342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6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2: Formu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7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7DC99-334C-460C-9219-016E49AB1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Arc Length</a:t>
            </a:r>
            <a:endParaRPr b="0" lang="en-US" sz="4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Arc leng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istance arou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 ar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6705720" y="1600200"/>
            <a:ext cx="1828800" cy="17938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1600200" y="31240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ircumference multiplied by the ratio of the center angle and 36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228600" y="31240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228600" y="4038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3"/>
          <p:cNvGrpSpPr/>
          <p:nvPr/>
        </p:nvGrpSpPr>
        <p:grpSpPr>
          <a:xfrm>
            <a:off x="6324480" y="4191120"/>
            <a:ext cx="1981440" cy="1936800"/>
            <a:chOff x="6324480" y="4191120"/>
            <a:chExt cx="1981440" cy="1936800"/>
          </a:xfrm>
        </p:grpSpPr>
        <p:sp>
          <p:nvSpPr>
            <p:cNvPr id="147" name="AutoShape 12"/>
            <p:cNvSpPr/>
            <p:nvPr/>
          </p:nvSpPr>
          <p:spPr>
            <a:xfrm>
              <a:off x="6324480" y="4191120"/>
              <a:ext cx="1981440" cy="19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rc 14"/>
            <p:cNvSpPr/>
            <p:nvPr/>
          </p:nvSpPr>
          <p:spPr>
            <a:xfrm>
              <a:off x="7248600" y="4479840"/>
              <a:ext cx="812880" cy="857160"/>
            </a:xfrm>
            <a:prstGeom prst="pie">
              <a:avLst/>
            </a:prstGeom>
            <a:noFill/>
            <a:ln w="3348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5"/>
            <p:cNvSpPr/>
            <p:nvPr/>
          </p:nvSpPr>
          <p:spPr>
            <a:xfrm>
              <a:off x="6435720" y="4379760"/>
              <a:ext cx="1636560" cy="1636920"/>
            </a:xfrm>
            <a:prstGeom prst="ellipse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16"/>
            <p:cNvSpPr/>
            <p:nvPr/>
          </p:nvSpPr>
          <p:spPr>
            <a:xfrm flipH="1">
              <a:off x="7248600" y="4479840"/>
              <a:ext cx="388800" cy="71280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17"/>
            <p:cNvSpPr/>
            <p:nvPr/>
          </p:nvSpPr>
          <p:spPr>
            <a:xfrm>
              <a:off x="7248600" y="5192640"/>
              <a:ext cx="801720" cy="144360"/>
            </a:xfrm>
            <a:prstGeom prst="line">
              <a:avLst/>
            </a:prstGeom>
            <a:ln w="11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8"/>
            <p:cNvSpPr/>
            <p:nvPr/>
          </p:nvSpPr>
          <p:spPr>
            <a:xfrm>
              <a:off x="7566480" y="5281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9"/>
            <p:cNvSpPr/>
            <p:nvPr/>
          </p:nvSpPr>
          <p:spPr>
            <a:xfrm>
              <a:off x="7655040" y="5281560"/>
              <a:ext cx="264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20"/>
            <p:cNvSpPr/>
            <p:nvPr/>
          </p:nvSpPr>
          <p:spPr>
            <a:xfrm>
              <a:off x="7392240" y="50148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7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21"/>
            <p:cNvSpPr/>
            <p:nvPr/>
          </p:nvSpPr>
          <p:spPr>
            <a:xfrm>
              <a:off x="7644960" y="5003640"/>
              <a:ext cx="4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22"/>
            <p:cNvSpPr/>
            <p:nvPr/>
          </p:nvSpPr>
          <p:spPr>
            <a:xfrm>
              <a:off x="7226280" y="5170320"/>
              <a:ext cx="55440" cy="558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23"/>
            <p:cNvSpPr/>
            <p:nvPr/>
          </p:nvSpPr>
          <p:spPr>
            <a:xfrm>
              <a:off x="7159680" y="519264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24"/>
            <p:cNvSpPr/>
            <p:nvPr/>
          </p:nvSpPr>
          <p:spPr>
            <a:xfrm>
              <a:off x="8028000" y="5315040"/>
              <a:ext cx="55440" cy="554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25"/>
            <p:cNvSpPr/>
            <p:nvPr/>
          </p:nvSpPr>
          <p:spPr>
            <a:xfrm>
              <a:off x="8128080" y="530388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26"/>
            <p:cNvSpPr/>
            <p:nvPr/>
          </p:nvSpPr>
          <p:spPr>
            <a:xfrm>
              <a:off x="7615080" y="4457880"/>
              <a:ext cx="55800" cy="554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27"/>
            <p:cNvSpPr/>
            <p:nvPr/>
          </p:nvSpPr>
          <p:spPr>
            <a:xfrm>
              <a:off x="7626600" y="4302000"/>
              <a:ext cx="110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2" name="Object 32"/>
          <p:cNvGraphicFramePr/>
          <p:nvPr/>
        </p:nvGraphicFramePr>
        <p:xfrm>
          <a:off x="4038480" y="5764320"/>
          <a:ext cx="2568600" cy="48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Object 3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8480" y="5764320"/>
                    <a:ext cx="256860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Text Box 34"/>
          <p:cNvSpPr/>
          <p:nvPr/>
        </p:nvSpPr>
        <p:spPr>
          <a:xfrm>
            <a:off x="2057400" y="4038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c Leng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Object 8"/>
          <p:cNvGraphicFramePr/>
          <p:nvPr/>
        </p:nvGraphicFramePr>
        <p:xfrm>
          <a:off x="3886200" y="3809880"/>
          <a:ext cx="1698480" cy="1905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6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3809880"/>
                    <a:ext cx="169848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6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2: Formu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7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1D1D-C587-4BF8-A57E-D15A9B52E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Area of a Circle</a:t>
            </a:r>
            <a:endParaRPr b="0" lang="en-US" sz="4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240" y="190512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a circle is the number of unit squares that can fit into a circ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Object 16"/>
          <p:cNvGraphicFramePr/>
          <p:nvPr/>
        </p:nvGraphicFramePr>
        <p:xfrm>
          <a:off x="2743200" y="4419720"/>
          <a:ext cx="1892160" cy="69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4419720"/>
                    <a:ext cx="189216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6"/>
          <p:cNvGraphicFramePr/>
          <p:nvPr/>
        </p:nvGraphicFramePr>
        <p:xfrm>
          <a:off x="2057400" y="2666880"/>
          <a:ext cx="1676520" cy="65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2666880"/>
                    <a:ext cx="167652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Text Box 7"/>
          <p:cNvSpPr/>
          <p:nvPr/>
        </p:nvSpPr>
        <p:spPr>
          <a:xfrm>
            <a:off x="380880" y="3962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1828800" y="39625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the area of the following cir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9"/>
          <p:cNvGrpSpPr/>
          <p:nvPr/>
        </p:nvGrpSpPr>
        <p:grpSpPr>
          <a:xfrm>
            <a:off x="6629400" y="4191120"/>
            <a:ext cx="1981080" cy="1925640"/>
            <a:chOff x="6629400" y="4191120"/>
            <a:chExt cx="1981080" cy="1925640"/>
          </a:xfrm>
        </p:grpSpPr>
        <p:sp>
          <p:nvSpPr>
            <p:cNvPr id="178" name="AutoShape 10"/>
            <p:cNvSpPr/>
            <p:nvPr/>
          </p:nvSpPr>
          <p:spPr>
            <a:xfrm>
              <a:off x="6629400" y="4191120"/>
              <a:ext cx="1981080" cy="19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1"/>
            <p:cNvSpPr/>
            <p:nvPr/>
          </p:nvSpPr>
          <p:spPr>
            <a:xfrm>
              <a:off x="6767280" y="4329000"/>
              <a:ext cx="1663920" cy="1663920"/>
            </a:xfrm>
            <a:prstGeom prst="ellipse">
              <a:avLst/>
            </a:prstGeom>
            <a:noFill/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2"/>
            <p:cNvSpPr/>
            <p:nvPr/>
          </p:nvSpPr>
          <p:spPr>
            <a:xfrm>
              <a:off x="7592760" y="5154480"/>
              <a:ext cx="825480" cy="1296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3"/>
            <p:cNvSpPr/>
            <p:nvPr/>
          </p:nvSpPr>
          <p:spPr>
            <a:xfrm>
              <a:off x="7851960" y="4906800"/>
              <a:ext cx="517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 c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4"/>
            <p:cNvSpPr/>
            <p:nvPr/>
          </p:nvSpPr>
          <p:spPr>
            <a:xfrm>
              <a:off x="7564320" y="5126040"/>
              <a:ext cx="69840" cy="6840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5"/>
            <p:cNvSpPr/>
            <p:nvPr/>
          </p:nvSpPr>
          <p:spPr>
            <a:xfrm>
              <a:off x="8389800" y="5140440"/>
              <a:ext cx="69840" cy="680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84" name="Object 18"/>
          <p:cNvGraphicFramePr/>
          <p:nvPr/>
        </p:nvGraphicFramePr>
        <p:xfrm>
          <a:off x="2666880" y="5105520"/>
          <a:ext cx="1447920" cy="54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5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5105520"/>
                    <a:ext cx="14479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Object 20"/>
          <p:cNvGraphicFramePr/>
          <p:nvPr/>
        </p:nvGraphicFramePr>
        <p:xfrm>
          <a:off x="2590920" y="5638680"/>
          <a:ext cx="2835000" cy="700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7" name="Object 2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90920" y="5638680"/>
                    <a:ext cx="283500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Text Box 21"/>
          <p:cNvSpPr/>
          <p:nvPr/>
        </p:nvSpPr>
        <p:spPr>
          <a:xfrm>
            <a:off x="380880" y="28195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6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2: Formul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7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4F39-8DE0-4617-A190-22F6E30D3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Times New Roman"/>
              </a:rPr>
              <a:t>Area of a Sector</a:t>
            </a:r>
            <a:endParaRPr b="0" lang="en-US" sz="47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Area of a sect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area of a section of the circ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6705720" y="1676520"/>
            <a:ext cx="1904760" cy="183816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1523880" y="289548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ea multiplied by the ratio of the center angle and 36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9"/>
          <p:cNvSpPr/>
          <p:nvPr/>
        </p:nvSpPr>
        <p:spPr>
          <a:xfrm>
            <a:off x="228600" y="2895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Formu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0"/>
          <p:cNvSpPr/>
          <p:nvPr/>
        </p:nvSpPr>
        <p:spPr>
          <a:xfrm>
            <a:off x="228600" y="3886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21" descr=""/>
          <p:cNvPicPr/>
          <p:nvPr/>
        </p:nvPicPr>
        <p:blipFill>
          <a:blip r:embed="rId2"/>
          <a:stretch/>
        </p:blipFill>
        <p:spPr>
          <a:xfrm>
            <a:off x="6248520" y="3886200"/>
            <a:ext cx="2666880" cy="25509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37"/>
          <p:cNvSpPr/>
          <p:nvPr/>
        </p:nvSpPr>
        <p:spPr>
          <a:xfrm>
            <a:off x="7620120" y="4876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65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42"/>
          <p:cNvGraphicFramePr/>
          <p:nvPr/>
        </p:nvGraphicFramePr>
        <p:xfrm>
          <a:off x="2666880" y="5638680"/>
          <a:ext cx="3124440" cy="56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Object 4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5638680"/>
                    <a:ext cx="312444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Text Box 44"/>
          <p:cNvSpPr/>
          <p:nvPr/>
        </p:nvSpPr>
        <p:spPr>
          <a:xfrm>
            <a:off x="1600200" y="3886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Object 45"/>
          <p:cNvGraphicFramePr/>
          <p:nvPr/>
        </p:nvGraphicFramePr>
        <p:xfrm>
          <a:off x="2666880" y="3657600"/>
          <a:ext cx="1613160" cy="2023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3" name="Object 4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3657600"/>
                    <a:ext cx="1613160" cy="20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9T18:49:17Z</dcterms:created>
  <dc:creator>Administrator</dc:creator>
  <dc:description/>
  <dc:language>en-US</dc:language>
  <cp:lastModifiedBy>CCSD</cp:lastModifiedBy>
  <dcterms:modified xsi:type="dcterms:W3CDTF">2011-05-05T17:35:56Z</dcterms:modified>
  <cp:revision>27</cp:revision>
  <dc:subject/>
  <dc:title>8-2 FORMULAS</dc:title>
</cp:coreProperties>
</file>